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D92A-DD34-4039-981E-349153AD6605}"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DA41-4FB8-4888-A710-885759944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332F-0A7F-429A-B979-2D38D040E1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617D-B479-4EA1-84BF-612A47BD2C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967A-D6D5-4428-B1D0-6785009C3E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D0ED99D-06D6-4E2B-BA79-8DF393B40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57B7-5F50-4767-A875-4693A6C594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87D5-3192-43F6-8E0D-5D97A44A8E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2533-9EF3-4703-92EB-B0F15C2595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B6DA-B4BD-4925-82F2-088E5074E4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B5527-6DD5-47FE-B4C3-1B768FCD5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F1888-85B6-47A6-B96A-011EDBA9C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2FFE5-0242-4AE2-866E-79D4B5A2C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DC3CF-0DCA-42FC-AC60-2CFFD0BDF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34F47-0446-49CB-AD1A-2FE8669E8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D63CD-0DCB-43E6-8150-11D9FF2BB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9C3A8-6487-4951-9EB8-3140F17F9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CB85C-1939-490B-89DE-9762FF1E3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16763-8B42-459B-AA2E-59D5C0122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05C61-B8C1-48F2-81CE-2C5DEADED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4FAA8-E2EE-4CF4-8F44-80463B840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D06DE-FA06-405E-BC07-322901248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58D6A-CDC9-4F85-A996-2E67311BE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F79C1-45CD-4636-A266-1B1ADA79E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AFE76-57EC-47EF-BAB8-FAADDF0C4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22606-0236-474E-9E98-00B58F33E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7CF40-89ED-475F-8238-5488AA62A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A0E8C-E4DF-4941-90F7-C7F723D66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E9F4C-AAA0-4117-B7FB-ED419F335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D007-0FEA-41FC-9DCD-FAEF15263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532ED-BFFD-4E32-98A1-1616AD4B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57FE-400F-408E-9286-340136AED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BC6E-13AF-4B65-964E-85AF81424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92EA8-2CDA-48A3-80E5-0A5126D05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C12D-8EF9-43B3-8551-4143F4A57A8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C278-5D7E-4E79-A8C4-0CCCB6A4EE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171E-98EF-43B5-A360-17D9C60F1A5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9CC4-DBA4-4532-B503-45554CCC26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CDD7-EB51-4FCD-A5BA-5C9FB121A99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C376-9707-4D56-9C31-305BD3762AE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Ethiopian Highlands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30,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34BB-58A0-4E55-8D23-A1EC40BC48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Ethiopian Highland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Addis Ababa, 30 January-2 Febr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4DBE-C628-4E0C-858B-79318D011D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1-30T11:02:34Z</dcterms:modified>
  <cp:revision>241</cp:revision>
  <dc:subject/>
  <dc:title>PowerPoint Presentation</dc:title>
</cp:coreProperties>
</file>